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F7A3-0717-4A2A-B0CF-4DE9584FFCA9}"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stavu legislativní nouze schválila Poslanecká sněmovna během jediného dne (2. listopadu 2010) a Senát 12. 11.  2010 zákon, kterým se mění některé zákony v souvislosti s úspornými opatřeními v působnosti MPSV. Návrhem se mění řada zákonů, které zásadním způsobem dopadnou na zaměstnance. Jedná se zejména o škrty v sociálních dávkách, změny v odměňování ve veřejných službách a správě a změny v daních. Uvedené změny jsou již promítnuty do návrhu státního rozpočtu na rok 2011. (Čeká se na podpis prezidenta).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rušuje se možnost přivýdělku osob uchazečů o zaměstnání pobírajících podporu v nezaměstnanosti. V současné době si mohou osoby pobírající podporu v nezaměstnanosti přilepšit přivýdělkem až do výše poloviny minimální mzdy (dnes 4 000 Kč), aniž by byl dotčen jejich nárok na výplatu podpory. Dle nové právní úpravy se budou muset rozhodnout mezi dvěma přístupy, a to buď budou pobírat podporu (bez možnosti jakéhokoliv přivýdělku), nebo se budou plně spoléhat na svoje vlastní příjmy (bez pobírání podpory). Stát tím chce ušetřit 820 mil. Kč.</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a:t>
            </a:r>
            <a:r>
              <a:rPr b="0" lang="cs-CZ" sz="1200" spc="-1" strike="noStrike" u="sng">
                <a:solidFill>
                  <a:srgbClr val="000000"/>
                </a:solidFill>
                <a:uFillTx/>
                <a:latin typeface="Calibri"/>
              </a:rPr>
              <a:t>vzniku nároku</a:t>
            </a:r>
            <a:r>
              <a:rPr b="0" lang="cs-CZ" sz="1200" spc="-1" strike="noStrike">
                <a:solidFill>
                  <a:srgbClr val="000000"/>
                </a:solidFill>
                <a:latin typeface="Calibri"/>
              </a:rPr>
              <a:t> na odstupné zaměstnanec nedostane podporu v nezaměstnanosti po dobu, která bude odpovídat výši odstupného. Problém však může nastat v situaci, kdy zaměstnanci bude sice ze zákona vyplývat nárok na vyplacení odstupného, ovšem fakticky (např. při insolvenci zaměstnavatele) mu žádné vyplaceno nebude. Vláda tak postaví zaměstnance do situace, kdy bude zcela bez prostředků.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procentuální výše výměry podpory v nezaměstnanosti u zaměstnanců, kteří ukončí svůj zaměstnanecký vztah bez vážného důvodu na vlastní žádost (výpověď, dohoda). Současná výměra (65 % průměrného měsíčního čistého výdělku první 2 měsíce podpůrčí doby,  50 % další dva měsíce a 45 % po zbytek podpůrčí doby) tak klesne na minimální úroveň hned od prvního měsíce pobírání podpory v nezaměstnanosti.</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ovou podmínkou pro výkon zprostředkovatelské činnosti se stane povinnost sjednání pojištění (a to ve výši trojnásobku průměrného měsíčního výdělku všech dočasně přidělených zaměstnanců) pro případ úpadku agentury.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tím co institut nekolidujícího zaměstnaní se ruší, což zhoršuje postavení zaměstnanců. Nově se zavádí překlenovací příspěvek, který je určen k podpoře samostatně výdělečné činnosti. Nezaměstnaný, který ukončí registraci na úřadu práce a stane se OSVČ, může úřad práce požádat o poskytnutí překlenovacího příspěvku, a to ve výši ¼ průměrné mzdy měsíčně, tj. cca 5 800 Kč. Příspěvek má motivovat zaměstnance, aby začali podnikat.  Částka měla přispět na provozní náklady (nájemné, náklady na dopravu a opravu objektu), a lze ji čerpat po dobu až 5 měsíců.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současného stavu stačí, aby dohoda  o provedení práce byla účastníky uzavřena i v ústní podobě. Nová právní úprava ukládá zaměstnavateli povinnost uzavřít dohodu o provedení práce v písemné formě. Zabrání se tím zneužívání dohody o provedení práce ve vztahu ke klasickému pracovnímu poměru (zaměstnavatelé tak nebudou nadále moci při inspekční kontrole zastírat faktický pracovní vztah). </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00"/>
                </a:solidFill>
                <a:latin typeface="Calibri"/>
              </a:rPr>
              <a:t>Kromě 10 % procentního snížení objemu prostředků na platy</a:t>
            </a:r>
            <a:r>
              <a:rPr b="0" lang="cs-CZ" sz="1200" spc="-1" strike="noStrike">
                <a:solidFill>
                  <a:srgbClr val="000000"/>
                </a:solidFill>
                <a:latin typeface="Calibri"/>
              </a:rPr>
              <a:t>  vláda může (bez dalších podmínek) stanovit okruh zaměstnanců, kterým lze určit platový tarif  s rozpětím. Nově  může zaměstnavatel sjednávat i smluvní plat. Současně dojde ke zrušení povinnosti dodržovat v nařízení vlády minimální rozdíl mezi první a 16. platovou třídou a mezi prvním a 12. platovým stupněm.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tím jen pro rok 2011 dojde ke snížení slevy na poplatníka  u daně z příjmu fyzických osob (včetně zaměstnanců) o 100 Kč měsíčně (1 200 Kč ročně).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restriktivních změn se zavádí také zdanění výsluhového příspěvků příslušníků ozbrojených složek, a to konečnou srážkovou daní 15 %.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chází ke snížení výše státního příspěvku ze současných až 3 000 Kč na max. 2 000 Kč ročně (10 % z max. částky 20 000 Kč), a to i u smluv uzavřených před nabytím účinnosti těchto změn. Za posledních 7 let (od roku 2003) se tak jedná o snížení státního příspěvku o 56 % (z původních 4 500 Kč na 2 000 Kč), což rozhodně nelze chápat jako podporu státu na motivaci občanů pořizovat si vlastní bydlení. </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átní příspěvek na stavební spoření, na který vznikl nárok v roce 2010 a který bude vyplacen v roce 2011, bude zdaněn, a to 50 % sazbou daně. Ve výsledku tak spořitelé obdrží státní příspěvek max. ve výši 2 250 Kč (u smluv uzavřených do konce roku 2003), resp. 1 500 Kč (smlouvy od roku 2004). Od roku 2011 budou zdaňovány úroky ze stavebního spoření (tj. uroku z vkladu klienta + úroky plynoucí ze státního příspěvku).</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7CC3-C8AF-46F6-BBDB-15602A0FACD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časné snížení nemocenského, které mělo platit pouze pro rok 2010, </a:t>
            </a:r>
            <a:r>
              <a:rPr b="0" lang="cs-CZ" sz="1200" spc="-1" strike="noStrike">
                <a:solidFill>
                  <a:srgbClr val="000000"/>
                </a:solidFill>
                <a:latin typeface="Arial"/>
              </a:rPr>
              <a:t>se zavádí jako</a:t>
            </a:r>
            <a:r>
              <a:rPr b="0" lang="cs-CZ" sz="1200" spc="-1" strike="noStrike">
                <a:solidFill>
                  <a:srgbClr val="000000"/>
                </a:solidFill>
                <a:latin typeface="Calibri"/>
              </a:rPr>
              <a:t> trvalé opatření. Od ledna tak nemocní zaměstnanci již nebudou při dlouhodobé pracovní neschopnosti pobírat vyšší nemocenské (do konce roku 2009 zvýšení činilo 66 % a od třetího měsíce 72 % vyměřovacího základu). U zaměstnance s průměrnou mzdou to znamená snížení nemocenského o 1 530 Kč (o 9 %) za druhý měsíc a 2 670 Kč měsíčně (o 17 %) od třetího měsíce nemoci.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t>
            </a:r>
            <a:r>
              <a:rPr b="0" lang="cs-CZ" sz="1200" spc="-1" strike="noStrike">
                <a:solidFill>
                  <a:srgbClr val="000000"/>
                </a:solidFill>
                <a:latin typeface="Calibri"/>
              </a:rPr>
              <a:t>aměstnavatelé </a:t>
            </a:r>
            <a:r>
              <a:rPr b="0" lang="cs-CZ" sz="1200" spc="-1" strike="noStrike">
                <a:solidFill>
                  <a:srgbClr val="000000"/>
                </a:solidFill>
                <a:latin typeface="Arial"/>
              </a:rPr>
              <a:t>budou</a:t>
            </a:r>
            <a:r>
              <a:rPr b="0" lang="cs-CZ" sz="1200" spc="-1" strike="noStrike">
                <a:solidFill>
                  <a:srgbClr val="000000"/>
                </a:solidFill>
                <a:latin typeface="Calibri"/>
              </a:rPr>
              <a:t> poskytovat náhradu mzdy po dobu 21 kalendářních dnů (namísto stávajících 14 kalendářních dnů). Toto opatření má platit po dobu tří let, tj. do roku 2013, poté se má doba poskytování náhrady mzdy v době nemoci vrátit na 14 dní. </a:t>
            </a:r>
            <a:endParaRPr b="0" lang="en-US" sz="1200" spc="-1" strike="noStrike">
              <a:solidFill>
                <a:srgbClr val="000000"/>
              </a:solidFill>
              <a:latin typeface="Calibri"/>
            </a:endParaRPr>
          </a:p>
          <a:p>
            <a:pPr marL="228600" indent="-228600">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městnavatelům se ruší refundace poloviny vyplacené náhrady mzdy v době nemoci</a:t>
            </a:r>
            <a:r>
              <a:rPr b="0" lang="cs-CZ" sz="1200" spc="-1" strike="noStrike">
                <a:solidFill>
                  <a:srgbClr val="000000"/>
                </a:solidFill>
                <a:latin typeface="Calibri"/>
              </a:rPr>
              <a:t>, vláda tím ušetří cca 3,7 mld. Kč. </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souvislosti s těmito kroky je namístě obava, že zaměstnanci budou ještě více než doposud vystavováni tlaku zaměstnavatelů, aby nemoc přecházeli, řešili svoje zdravotní problémy prostřednictvím čerpání dovolené či jiného volna atd. tak, aby nezvyšovaly náklady zaměstnavatel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městnavatelé </a:t>
            </a:r>
            <a:r>
              <a:rPr b="0" lang="cs-CZ" sz="1200" spc="-1" strike="noStrike">
                <a:solidFill>
                  <a:srgbClr val="000000"/>
                </a:solidFill>
                <a:latin typeface="Arial"/>
              </a:rPr>
              <a:t>nadále budou</a:t>
            </a:r>
            <a:r>
              <a:rPr b="0" lang="cs-CZ" sz="1200" spc="-1" strike="noStrike">
                <a:solidFill>
                  <a:srgbClr val="000000"/>
                </a:solidFill>
                <a:latin typeface="Calibri"/>
              </a:rPr>
              <a:t> odvádět pojistné na nemocenské pojištění</a:t>
            </a:r>
            <a:r>
              <a:rPr b="1" lang="cs-CZ" sz="1200" spc="-1" strike="noStrike">
                <a:solidFill>
                  <a:srgbClr val="000000"/>
                </a:solidFill>
                <a:latin typeface="Calibri"/>
              </a:rPr>
              <a:t> </a:t>
            </a:r>
            <a:r>
              <a:rPr b="0" lang="cs-CZ" sz="1200" spc="-1" strike="noStrike">
                <a:solidFill>
                  <a:srgbClr val="000000"/>
                </a:solidFill>
                <a:latin typeface="Calibri"/>
              </a:rPr>
              <a:t>ve výši 2,3 % z vyměřovacího základu, tzn. nesníží se jim sazba od 1.1.2011 na 1,4 %, s čímž dosud platné předpisy počítaly. Tímto opatřením budou příjmy nemocenského pojištění o 9,2 mld. Kč ročně vyšší. </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městnavatelé do 26 zaměstnanců mají možnost se v rámci veřejného systému nemocenského pojištění „připojistit“. V takovém případě </a:t>
            </a:r>
            <a:r>
              <a:rPr b="0" lang="cs-CZ" sz="1200" spc="-1" strike="noStrike">
                <a:solidFill>
                  <a:srgbClr val="000000"/>
                </a:solidFill>
                <a:latin typeface="Arial"/>
              </a:rPr>
              <a:t>budou odvádět</a:t>
            </a:r>
            <a:r>
              <a:rPr b="0" lang="cs-CZ" sz="1200" spc="-1" strike="noStrike">
                <a:solidFill>
                  <a:srgbClr val="000000"/>
                </a:solidFill>
                <a:latin typeface="Calibri"/>
              </a:rPr>
              <a:t> do systému pojistné ve výši 3,3 % a tím budou mít </a:t>
            </a:r>
            <a:r>
              <a:rPr b="0" lang="cs-CZ" sz="1200" spc="-1" strike="noStrike">
                <a:solidFill>
                  <a:srgbClr val="000000"/>
                </a:solidFill>
                <a:latin typeface="Arial"/>
              </a:rPr>
              <a:t>nárok na refundaci poloviny</a:t>
            </a:r>
            <a:r>
              <a:rPr b="0" lang="cs-CZ" sz="1200" spc="-1" strike="noStrike">
                <a:solidFill>
                  <a:srgbClr val="000000"/>
                </a:solidFill>
                <a:latin typeface="Calibri"/>
              </a:rPr>
              <a:t> vyplacené náhrady mzdy. Z pohledu státního rozpočtu se očekává, že toto dodatečně vybrané pojistné by mělo náklady na refundaci náhrady mzdy u malých zaměstnavatelů plně pokrý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 ledna 2011 jsou nově nastavena pravidla pro stanovení vyměřovacího základu pro pojištění OSVČ. </a:t>
            </a:r>
            <a:r>
              <a:rPr b="0" lang="cs-CZ" sz="1200" spc="-1" strike="noStrike">
                <a:solidFill>
                  <a:srgbClr val="000000"/>
                </a:solidFill>
                <a:latin typeface="Arial"/>
              </a:rPr>
              <a:t>Vyměřovací základ pro nemocenské pojištění nemůže být vyšší než vyměřovací základ na důchodové pojištění. N</a:t>
            </a:r>
            <a:r>
              <a:rPr b="0" lang="cs-CZ" sz="1200" spc="-1" strike="noStrike">
                <a:solidFill>
                  <a:srgbClr val="000000"/>
                </a:solidFill>
                <a:latin typeface="Calibri"/>
              </a:rPr>
              <a:t>adále je nemocenské pojištění pro OSVČ dobrovolné, odstraní se však stávající bezdůvodné zvýhodnění těchto osob, kdy si mohly účelově platit (popř. doplatit zpětně)  nemocenské pojistné  v takové výši, aby v případě sociální události (např. plánovaná operace, mateřství atd.) dosáhly na nejvyšší výměry dávek.</a:t>
            </a:r>
            <a:r>
              <a:rPr b="1" lang="cs-CZ" sz="1200" spc="-1" strike="noStrike">
                <a:solidFill>
                  <a:srgbClr val="000000"/>
                </a:solidFill>
                <a:latin typeface="Calibri"/>
              </a:rPr>
              <a:t> </a:t>
            </a:r>
            <a:r>
              <a:rPr b="0" lang="cs-CZ" sz="1200" spc="-1" strike="noStrike">
                <a:solidFill>
                  <a:srgbClr val="000000"/>
                </a:solidFill>
                <a:latin typeface="Calibri"/>
              </a:rPr>
              <a:t>Tuto změnu ČMKOS dlouhodobě požadovala. </a:t>
            </a:r>
            <a:endParaRPr b="0" lang="en-US" sz="1200" spc="-1" strike="noStrike">
              <a:solidFill>
                <a:srgbClr val="000000"/>
              </a:solidFill>
              <a:latin typeface="Calibri"/>
            </a:endParaRPr>
          </a:p>
          <a:p>
            <a:pPr marL="228600" indent="-228600">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sou</a:t>
            </a:r>
            <a:r>
              <a:rPr b="0" lang="cs-CZ" sz="1200" spc="-1" strike="noStrike">
                <a:solidFill>
                  <a:srgbClr val="000000"/>
                </a:solidFill>
                <a:latin typeface="Calibri"/>
              </a:rPr>
              <a:t> zachovány hranice pro odvod pojistného na sociální pojištění ve výši 72 násobku průměrné mzdy, tj. </a:t>
            </a:r>
            <a:r>
              <a:rPr b="0" lang="cs-CZ" sz="1200" spc="-1" strike="noStrike">
                <a:solidFill>
                  <a:srgbClr val="000000"/>
                </a:solidFill>
                <a:latin typeface="Arial"/>
              </a:rPr>
              <a:t>nevrací se</a:t>
            </a:r>
            <a:r>
              <a:rPr b="0" lang="cs-CZ" sz="1200" spc="-1" strike="noStrike">
                <a:solidFill>
                  <a:srgbClr val="000000"/>
                </a:solidFill>
                <a:latin typeface="Calibri"/>
              </a:rPr>
              <a:t> na úroveň 48 násobku, s čímž počítají dosud platné předpisy. Tím se očekává navýšení příjmů státního rozpočtu o 3,1 mld. Kč.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ociální příplatek dnes pobírají rodiny s dětmi s nejnižšími příjmy, ty tak přijdou o značnou část svých příjmů. Zhruba jedna třetina rodin, které dnes pobírají tuto dávku, mají příjem pod úrovní životního minima. V tomto případě mohou požádat o dávky hmotné nouze, což by jim mohlo (ale pouze částečně) ztrátu této dávky kompenzovat. Ovšem v takovém případě se již posuzuje celková sociální situace rodiny, včetně majetku. Obáváme se proto, že dojde k výraznému nárůstu chudoby v ČR </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edná-li se o dítě nebo rodiče zdravotně postiženého náleží mu až do konce roku 2012 sociální příplatek ve stávající výši (tj. včetně zvýhodnění výše příplatku z důvodu zdravotního stavu).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ění se </a:t>
            </a:r>
            <a:r>
              <a:rPr b="0" lang="cs-CZ" sz="1200" spc="-1" strike="noStrike">
                <a:solidFill>
                  <a:srgbClr val="000000"/>
                </a:solidFill>
                <a:latin typeface="Calibri"/>
              </a:rPr>
              <a:t> podmínky pro čerpání rodičovského příspěvku do 4 let věku dítěte, tj. při nejdelší době čerpání této dávky. Dnes je rodičům při čtyřletém čerpání v souhrnu vyplacen větší objem prostředků (celkem 262 tis.) než v případě výplaty dávky do 2 let věku dítěte (kdy celkově dostanou 216 tis. Kč). Pokud si rodič zvolí čerpání rodičovského příspěvku do 4 let věku dítěte, </a:t>
            </a:r>
            <a:r>
              <a:rPr b="0" lang="cs-CZ" sz="1200" spc="-1" strike="noStrike">
                <a:solidFill>
                  <a:srgbClr val="000000"/>
                </a:solidFill>
                <a:latin typeface="Arial"/>
              </a:rPr>
              <a:t>sníží se nově jeho výše</a:t>
            </a:r>
            <a:r>
              <a:rPr b="0" lang="cs-CZ" sz="1200" spc="-1" strike="noStrike">
                <a:solidFill>
                  <a:srgbClr val="000000"/>
                </a:solidFill>
                <a:latin typeface="Calibri"/>
              </a:rPr>
              <a:t> od 9 měsíců dítěte na 3 800 Kč měsíčně (dnes je tento nižší příspěvek vyplácen až od 22. měsíce věku dítěte). </a:t>
            </a:r>
            <a:r>
              <a:rPr b="0" lang="cs-CZ" sz="1200" spc="-1" strike="noStrike">
                <a:solidFill>
                  <a:srgbClr val="000000"/>
                </a:solidFill>
                <a:latin typeface="Arial"/>
              </a:rPr>
              <a:t>Je tak zkrácena doba</a:t>
            </a:r>
            <a:r>
              <a:rPr b="0" lang="cs-CZ" sz="1200" spc="-1" strike="noStrike">
                <a:solidFill>
                  <a:srgbClr val="000000"/>
                </a:solidFill>
                <a:latin typeface="Calibri"/>
              </a:rPr>
              <a:t>, po kterou má rodič nárok na rodičovský příspěvek v základní výši, tj. 7 600 Kč měsíčně.  Stát tímto opatřením na rodičích s nejmenšími dětmi ušetří 1 mld. Kč.</a:t>
            </a:r>
            <a:endParaRPr b="0" lang="en-US" sz="1200" spc="-1" strike="noStrike">
              <a:solidFill>
                <a:srgbClr val="000000"/>
              </a:solidFill>
              <a:latin typeface="Calibri"/>
            </a:endParaRPr>
          </a:p>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rodné náleží pouze na první narozené dítě, pokud příjem rodiny nepřesáhne 2,4 násobek životního minima rodiny. Většina rodin tak o porodné př</a:t>
            </a:r>
            <a:r>
              <a:rPr b="0" lang="cs-CZ" sz="1200" spc="-1" strike="noStrike">
                <a:solidFill>
                  <a:srgbClr val="000000"/>
                </a:solidFill>
                <a:latin typeface="Arial"/>
              </a:rPr>
              <a:t>i</a:t>
            </a:r>
            <a:r>
              <a:rPr b="0" lang="cs-CZ" sz="1200" spc="-1" strike="noStrike">
                <a:solidFill>
                  <a:srgbClr val="000000"/>
                </a:solidFill>
                <a:latin typeface="Calibri"/>
              </a:rPr>
              <a:t>jde, neboť tato hranice příjmu znamená, že čisté příjmy rodiny (s jedním dítětem) nesmí být vyšší než 16 990 Kč měsíčně. Pokud by před narozením dítěte pracovali oba rodiče, museli by pracovat za mzdu nižší než 9 500 Kč.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spěvek na péči při I. stupni závislosti se snižuje z 2 000 Kč na 800 Kč měsíčně. Současně se zrušuje poskytování části příspěvku nepeněžní formou (tj. poukázkou), které mělo být podle dosud platných předpisů zavedeno od ledna 2011. Výrazné snížení příspěvku na péči v I. stupni závislosti může ohrozit dostupnost sociálních služeb pro závislé osoby. Stát očekává úsporu ve výši 1,5 mld. Kč.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DE6A-0DBE-4A5B-B900-E73E01824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DD1A2-C2AB-4E2D-9A65-35B454A56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ED5A4-12C1-4F3E-B107-8F81EC221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D6586-1B2B-4798-983A-0F270762C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C23D7-5AF9-4084-9709-88C339491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A7B2-8738-4F43-AB78-8686951B1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D4039-3F7B-4015-B765-BF3B4F26D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35CA3-CA29-4A73-84B9-DC056B904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372C8-FF87-4784-A7E9-C81E2E72F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C801B-2231-4B43-9CA8-1F1D75AAD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A0A7F-87F2-4123-BE28-6FBBD4E17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3CDE-1D9C-44BC-A0D5-9278B4A12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79A1F-BA05-45A7-8DD7-0F6B4D33C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D3D1-9F07-4330-9728-2DA4CAC7A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B0D9A-D09C-44A2-87AD-27C808337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0B55D-1B8B-4807-9CB8-D95918C87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E78B2-5C98-449F-859F-AF74A85B6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358C-DC71-4724-9251-63B86FC2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A402-28B6-4B6F-8891-353F1865B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01AC-3E66-44F2-82B7-513A801F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668A-B95C-4D30-AFBE-4E28F499C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62A3B-C31D-4F27-865E-6F7188BC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4CCD-234E-4BA5-B87D-F904A267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B814-6C61-4BC5-BA7B-1937C604E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E541-8600-4A92-B969-E331A1E9800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EB56-3C9A-409D-ABED-6CB508F423C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1413000"/>
            <a:ext cx="7623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06633"/>
                </a:solidFill>
                <a:latin typeface="Garamond"/>
              </a:rPr>
              <a:t>Úsporná opatření v působnosti MPSV </a:t>
            </a:r>
            <a:br>
              <a:rPr sz="5000"/>
            </a:br>
            <a:r>
              <a:rPr b="1" lang="cs-CZ" sz="5000" spc="-1" strike="noStrike">
                <a:solidFill>
                  <a:srgbClr val="006633"/>
                </a:solidFill>
                <a:latin typeface="Garamond"/>
              </a:rPr>
              <a:t>a daních z příjmů</a:t>
            </a:r>
            <a:endParaRPr b="0" lang="en-US" sz="5000" spc="-1" strike="noStrike">
              <a:solidFill>
                <a:srgbClr val="006633"/>
              </a:solidFill>
              <a:latin typeface="Garamond"/>
            </a:endParaRPr>
          </a:p>
        </p:txBody>
      </p:sp>
      <p:pic>
        <p:nvPicPr>
          <p:cNvPr id="94" name="Picture 6" descr="bz"/>
          <p:cNvPicPr/>
          <p:nvPr/>
        </p:nvPicPr>
        <p:blipFill>
          <a:blip r:embed="rId1"/>
          <a:stretch/>
        </p:blipFill>
        <p:spPr>
          <a:xfrm>
            <a:off x="0" y="0"/>
            <a:ext cx="2268360" cy="155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674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Změny v oblasti zaměstnanosti</a:t>
            </a:r>
            <a:endParaRPr b="0" lang="en-US" sz="4200" spc="-1" strike="noStrike">
              <a:solidFill>
                <a:srgbClr val="006633"/>
              </a:solidFill>
              <a:latin typeface="Garamond"/>
            </a:endParaRPr>
          </a:p>
        </p:txBody>
      </p:sp>
      <p:sp>
        <p:nvSpPr>
          <p:cNvPr id="11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Zrušeno nekolidující zaměstnání, tj. </a:t>
            </a:r>
            <a:r>
              <a:rPr b="0" lang="cs-CZ" sz="2600" spc="-1" strike="noStrike">
                <a:solidFill>
                  <a:srgbClr val="000000"/>
                </a:solidFill>
                <a:latin typeface="Arial"/>
              </a:rPr>
              <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rušena možnost přivýdělku do 4 000 Kč měsíčně při pobírání podpory v nezaměstnanosti</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řístup „buď podpora nebo přivýdělek“</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Předpokládaná úspora státu na podpoře nezaměstnaných cca. 820 mil. Kč</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1" lang="cs-CZ" sz="2600" spc="-1" strike="noStrike">
                <a:solidFill>
                  <a:srgbClr val="000000"/>
                </a:solidFill>
                <a:latin typeface="Arial"/>
              </a:rPr>
              <a:t>Podpora v nezaměstnanosti vs. odstupné</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odpora se poskytne až po uplynutí doby, která odpovídá výši odstupnéh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hrozba finančního nezajištění (nevyplacené odstupné + nulová podpora = osoba je bez prostředků)</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6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800" spc="-1" strike="noStrike">
              <a:solidFill>
                <a:srgbClr val="006633"/>
              </a:solidFill>
              <a:latin typeface="Garamond"/>
            </a:endParaRPr>
          </a:p>
        </p:txBody>
      </p:sp>
      <p:sp>
        <p:nvSpPr>
          <p:cNvPr id="115" name="PlaceHolder 2"/>
          <p:cNvSpPr>
            <a:spLocks noGrp="1"/>
          </p:cNvSpPr>
          <p:nvPr>
            <p:ph/>
          </p:nvPr>
        </p:nvSpPr>
        <p:spPr>
          <a:xfrm>
            <a:off x="468360" y="981000"/>
            <a:ext cx="8229600" cy="467064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Snížení výše podpory v nezaměstnanosti</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i ukončení pracovního poměru na vlastní žádost zaměstnance bez vážného důvodu (dohoda, výpověď)</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podpora pouze ve výši 45 % průměrného čistého výdělku, a to hned od prvního měsíce</a:t>
            </a:r>
            <a:endParaRPr b="0" lang="en-US" sz="2600" spc="-1" strike="noStrike">
              <a:solidFill>
                <a:srgbClr val="000000"/>
              </a:solidFill>
              <a:latin typeface="Arial"/>
            </a:endParaRPr>
          </a:p>
          <a:p>
            <a:pPr lvl="1" marL="663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přísnění agenturního zaměstnávání</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vinné pojištění</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ílení zajištění finančních nároků zaměstnanc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79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17" name="PlaceHolder 2"/>
          <p:cNvSpPr>
            <a:spLocks noGrp="1"/>
          </p:cNvSpPr>
          <p:nvPr>
            <p:ph/>
          </p:nvPr>
        </p:nvSpPr>
        <p:spPr>
          <a:xfrm>
            <a:off x="457200" y="1483920"/>
            <a:ext cx="8229600" cy="4383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Překlenovací příspěvek</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 podporu podnikání, samostatné výdělečné činnosti</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dpora OSVČ prostřednictvím úřadu prá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Max. 5 měsíců, ¼ průměrné mzdy (celkem až 29 000 Kč)</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rytí provozních nákladů (nájemné, doprava) </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555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Změny v zákoníku práce</a:t>
            </a:r>
            <a:endParaRPr b="0" lang="en-US" sz="3800" spc="-1" strike="noStrike">
              <a:solidFill>
                <a:srgbClr val="006633"/>
              </a:solidFill>
              <a:latin typeface="Garamond"/>
            </a:endParaRPr>
          </a:p>
        </p:txBody>
      </p:sp>
      <p:sp>
        <p:nvSpPr>
          <p:cNvPr id="119" name="PlaceHolder 2"/>
          <p:cNvSpPr>
            <a:spLocks noGrp="1"/>
          </p:cNvSpPr>
          <p:nvPr>
            <p:ph/>
          </p:nvPr>
        </p:nvSpPr>
        <p:spPr>
          <a:xfrm>
            <a:off x="457200" y="1196640"/>
            <a:ext cx="8229600" cy="4670280"/>
          </a:xfrm>
          <a:prstGeom prst="rect">
            <a:avLst/>
          </a:prstGeom>
          <a:noFill/>
          <a:ln w="0">
            <a:noFill/>
          </a:ln>
        </p:spPr>
        <p:txBody>
          <a:bodyPr anchor="t">
            <a:normAutofit fontScale="82000"/>
          </a:bodyPr>
          <a:p>
            <a:pPr marL="281160" indent="-2811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Písemná forma dohody o provedení práce</a:t>
            </a:r>
            <a:endParaRPr b="0" lang="en-US" sz="3000" spc="-1" strike="noStrike">
              <a:solidFill>
                <a:srgbClr val="000000"/>
              </a:solidFill>
              <a:latin typeface="Arial"/>
            </a:endParaRPr>
          </a:p>
          <a:p>
            <a:pPr lvl="1" marL="549360" indent="-2667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edcházení zneužití dohody (obcházení klasického pracovního poměru)</a:t>
            </a:r>
            <a:endParaRPr b="0" lang="en-US" sz="2600" spc="-1" strike="noStrike">
              <a:solidFill>
                <a:srgbClr val="000000"/>
              </a:solidFill>
              <a:latin typeface="Arial"/>
            </a:endParaRPr>
          </a:p>
          <a:p>
            <a:pPr lvl="1" marL="549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1160" indent="-2811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Odměňování ve veřejných službách</a:t>
            </a:r>
            <a:endParaRPr b="0" lang="en-US" sz="3000" spc="-1" strike="noStrike">
              <a:solidFill>
                <a:srgbClr val="000000"/>
              </a:solidFill>
              <a:latin typeface="Arial"/>
            </a:endParaRPr>
          </a:p>
          <a:p>
            <a:pPr lvl="1" marL="549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600" spc="-1" strike="noStrike">
                <a:solidFill>
                  <a:srgbClr val="000000"/>
                </a:solidFill>
                <a:latin typeface="Arial"/>
              </a:rPr>
              <a:t>	</a:t>
            </a:r>
            <a:r>
              <a:rPr b="1" i="1" lang="cs-CZ" sz="2600" spc="-1" strike="noStrike">
                <a:solidFill>
                  <a:srgbClr val="000000"/>
                </a:solidFill>
                <a:latin typeface="Arial"/>
              </a:rPr>
              <a:t>Kromě 10 % procentního snížení objemu prostředků na platy</a:t>
            </a:r>
            <a:endParaRPr b="0" lang="en-US" sz="2600" spc="-1" strike="noStrike">
              <a:solidFill>
                <a:srgbClr val="000000"/>
              </a:solidFill>
              <a:latin typeface="Arial"/>
            </a:endParaRPr>
          </a:p>
          <a:p>
            <a:pPr lvl="1" marL="549360" indent="-2667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P zmocňuje vládu k volnému stanovení platových tarifů a sjednávání smluvních platů</a:t>
            </a:r>
            <a:endParaRPr b="0" lang="en-US" sz="2600" spc="-1" strike="noStrike">
              <a:solidFill>
                <a:srgbClr val="000000"/>
              </a:solidFill>
              <a:latin typeface="Arial"/>
            </a:endParaRPr>
          </a:p>
          <a:p>
            <a:pPr lvl="1" marL="549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549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549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612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Změny v oblasti daně z příjmů</a:t>
            </a:r>
            <a:endParaRPr b="0" lang="en-US" sz="3800" spc="-1" strike="noStrike">
              <a:solidFill>
                <a:srgbClr val="006633"/>
              </a:solidFill>
              <a:latin typeface="Garamond"/>
            </a:endParaRPr>
          </a:p>
        </p:txBody>
      </p:sp>
      <p:sp>
        <p:nvSpPr>
          <p:cNvPr id="121" name="PlaceHolder 2"/>
          <p:cNvSpPr>
            <a:spLocks noGrp="1"/>
          </p:cNvSpPr>
          <p:nvPr>
            <p:ph/>
          </p:nvPr>
        </p:nvSpPr>
        <p:spPr>
          <a:xfrm>
            <a:off x="457200" y="1196640"/>
            <a:ext cx="8229600" cy="4670280"/>
          </a:xfrm>
          <a:prstGeom prst="rect">
            <a:avLst/>
          </a:prstGeom>
          <a:noFill/>
          <a:ln w="0">
            <a:noFill/>
          </a:ln>
        </p:spPr>
        <p:txBody>
          <a:bodyPr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Snížení slevy na poplatníka</a:t>
            </a:r>
            <a:endParaRPr b="0" lang="en-US" sz="3000" spc="-1" strike="noStrike">
              <a:solidFill>
                <a:srgbClr val="000000"/>
              </a:solidFill>
              <a:latin typeface="Arial"/>
            </a:endParaRPr>
          </a:p>
          <a:p>
            <a:pPr lvl="1" marL="656280" indent="-31860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nížení slevy o 100 Kč měsíčně, tj. o 1 200 Kč ročně (z 24 840 Kč na 23 640 Kč)</a:t>
            </a:r>
            <a:endParaRPr b="0" lang="en-US" sz="2600" spc="-1" strike="noStrike">
              <a:solidFill>
                <a:srgbClr val="000000"/>
              </a:solidFill>
              <a:latin typeface="Arial"/>
            </a:endParaRPr>
          </a:p>
          <a:p>
            <a:pPr lvl="1" marL="656280" indent="-31860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e výsledku vyšší daň z příjmů a snižování kupní síly </a:t>
            </a:r>
            <a:endParaRPr b="0" lang="en-US" sz="2600" spc="-1" strike="noStrike">
              <a:solidFill>
                <a:srgbClr val="000000"/>
              </a:solidFill>
              <a:latin typeface="Arial"/>
            </a:endParaRPr>
          </a:p>
          <a:p>
            <a:pPr lvl="1" marL="65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danění výsluhového příspěvku</a:t>
            </a:r>
            <a:endParaRPr b="0" lang="en-US" sz="3000" spc="-1" strike="noStrike">
              <a:solidFill>
                <a:srgbClr val="000000"/>
              </a:solidFill>
              <a:latin typeface="Arial"/>
            </a:endParaRPr>
          </a:p>
          <a:p>
            <a:pPr lvl="1" marL="656280" indent="-31860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íspěvek je určen </a:t>
            </a:r>
            <a:r>
              <a:rPr b="0" lang="cs-CZ" sz="2800" spc="-1" strike="noStrike">
                <a:solidFill>
                  <a:srgbClr val="000000"/>
                </a:solidFill>
                <a:latin typeface="Calibri"/>
              </a:rPr>
              <a:t>příslušníkům ozbrojených složek </a:t>
            </a:r>
            <a:r>
              <a:rPr b="0" lang="cs-CZ" sz="2600" spc="-1" strike="noStrike">
                <a:solidFill>
                  <a:srgbClr val="000000"/>
                </a:solidFill>
                <a:latin typeface="Arial"/>
              </a:rPr>
              <a:t>vyňat od ledna se ruší daňové osvobození</a:t>
            </a:r>
            <a:endParaRPr b="0" lang="en-US" sz="2600" spc="-1" strike="noStrike">
              <a:solidFill>
                <a:srgbClr val="000000"/>
              </a:solidFill>
              <a:latin typeface="Arial"/>
            </a:endParaRPr>
          </a:p>
          <a:p>
            <a:pPr lvl="1" marL="656280" indent="-31860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ově se zdaňuje 15 % srážkovou daní</a:t>
            </a:r>
            <a:endParaRPr b="0" lang="en-US" sz="2600" spc="-1" strike="noStrike">
              <a:solidFill>
                <a:srgbClr val="000000"/>
              </a:solidFill>
              <a:latin typeface="Arial"/>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6633"/>
                </a:solidFill>
                <a:latin typeface="Garamond"/>
              </a:rPr>
              <a:t>Změny ve stavebním spoření</a:t>
            </a:r>
            <a:endParaRPr b="0" lang="en-US" sz="4400" spc="-1" strike="noStrike">
              <a:solidFill>
                <a:srgbClr val="006633"/>
              </a:solidFill>
              <a:latin typeface="Garamond"/>
            </a:endParaRPr>
          </a:p>
        </p:txBody>
      </p:sp>
      <p:sp>
        <p:nvSpPr>
          <p:cNvPr id="123" name=""/>
          <p:cNvSpPr txBox="1"/>
          <p:nvPr/>
        </p:nvSpPr>
        <p:spPr>
          <a:xfrm>
            <a:off x="468360" y="1196640"/>
            <a:ext cx="8229600" cy="4530600"/>
          </a:xfrm>
          <a:prstGeom prst="rect">
            <a:avLst/>
          </a:prstGeom>
          <a:noFill/>
          <a:ln w="0">
            <a:noFill/>
          </a:ln>
        </p:spPr>
        <p:txBody>
          <a:bodyPr anchor="t">
            <a:normAutofit fontScale="96000"/>
          </a:bodyPr>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Snížení státního příspěvku – od roku 2011</a:t>
            </a:r>
            <a:endParaRPr b="0" lang="en-US" sz="30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33 % snížení státního příspěvku (max. výše 2 000 Kč)</a:t>
            </a:r>
            <a:endParaRPr b="0" lang="en-US" sz="26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 posledních 7 let pokles státního příspěvku o </a:t>
            </a:r>
            <a:br>
              <a:rPr sz="2600"/>
            </a:br>
            <a:r>
              <a:rPr b="0" lang="cs-CZ" sz="2600" spc="-1" strike="noStrike">
                <a:solidFill>
                  <a:srgbClr val="000000"/>
                </a:solidFill>
                <a:latin typeface="Arial"/>
              </a:rPr>
              <a:t>56 % </a:t>
            </a:r>
            <a:endParaRPr b="0" lang="en-US" sz="2600" spc="-1" strike="noStrike">
              <a:solidFill>
                <a:srgbClr val="000000"/>
              </a:solidFill>
              <a:latin typeface="Arial"/>
            </a:endParaRPr>
          </a:p>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danění státního příspěvku </a:t>
            </a:r>
            <a:endParaRPr b="0" lang="en-US" sz="30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 </a:t>
            </a:r>
            <a:r>
              <a:rPr b="0" lang="cs-CZ" sz="2600" spc="-1" strike="noStrike">
                <a:solidFill>
                  <a:srgbClr val="000000"/>
                </a:solidFill>
                <a:latin typeface="Arial"/>
              </a:rPr>
              <a:t>50 % zdanění stát. příspěvku za rok 2010</a:t>
            </a:r>
            <a:endParaRPr b="0" lang="en-US" sz="2600" spc="-1" strike="noStrike">
              <a:solidFill>
                <a:srgbClr val="000000"/>
              </a:solidFill>
              <a:latin typeface="Arial"/>
            </a:endParaRPr>
          </a:p>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danění úroků ze stavebního spoření</a:t>
            </a:r>
            <a:endParaRPr b="0" lang="en-US" sz="30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15 % zdanění úroků z vkladů i ze státního příspěvku</a:t>
            </a:r>
            <a:endParaRPr b="0" lang="en-US" sz="2600" spc="-1" strike="noStrike">
              <a:solidFill>
                <a:srgbClr val="000000"/>
              </a:solidFill>
              <a:latin typeface="Arial"/>
            </a:endParaRPr>
          </a:p>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Přehled dotčených oblastí</a:t>
            </a:r>
            <a:endParaRPr b="0" lang="en-US" sz="3800" spc="-1" strike="noStrike">
              <a:solidFill>
                <a:srgbClr val="006633"/>
              </a:solidFill>
              <a:latin typeface="Garamond"/>
            </a:endParaRPr>
          </a:p>
        </p:txBody>
      </p:sp>
      <p:sp>
        <p:nvSpPr>
          <p:cNvPr id="96" name="PlaceHolder 2"/>
          <p:cNvSpPr>
            <a:spLocks noGrp="1"/>
          </p:cNvSpPr>
          <p:nvPr>
            <p:ph/>
          </p:nvPr>
        </p:nvSpPr>
        <p:spPr>
          <a:xfrm>
            <a:off x="457200" y="1196640"/>
            <a:ext cx="8229600" cy="4670280"/>
          </a:xfrm>
          <a:prstGeom prst="rect">
            <a:avLst/>
          </a:prstGeom>
          <a:solidFill>
            <a:srgbClr val="ffffcc"/>
          </a:solidFill>
          <a:ln w="9360">
            <a:solidFill>
              <a:srgbClr val="e1e4ce"/>
            </a:solidFill>
            <a:miter/>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měny platné od 1.1.2011 v oblasti</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mocenských dávkách</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ociálního pojištění</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ávek státní sociální podpor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ociálních služe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městnanosti</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ákoníku prá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ní z příjmů a stavebního spoření</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Picture 6" descr="bz"/>
          <p:cNvPicPr/>
          <p:nvPr/>
        </p:nvPicPr>
        <p:blipFill>
          <a:blip r:embed="rId1"/>
          <a:stretch/>
        </p:blipFill>
        <p:spPr>
          <a:xfrm>
            <a:off x="7451640" y="258840"/>
            <a:ext cx="1258920" cy="86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12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Změny v nemocenských dávkách </a:t>
            </a:r>
            <a:endParaRPr b="0" lang="en-US" sz="3800" spc="-1" strike="noStrike">
              <a:solidFill>
                <a:srgbClr val="006633"/>
              </a:solidFill>
              <a:latin typeface="Garamond"/>
            </a:endParaRPr>
          </a:p>
        </p:txBody>
      </p:sp>
      <p:sp>
        <p:nvSpPr>
          <p:cNvPr id="99"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ově nemocenské</a:t>
            </a:r>
            <a:r>
              <a:rPr b="0" lang="cs-CZ" sz="3000" spc="-1" strike="noStrike">
                <a:solidFill>
                  <a:srgbClr val="000000"/>
                </a:solidFill>
                <a:latin typeface="Arial"/>
              </a:rPr>
              <a:t> </a:t>
            </a:r>
            <a:r>
              <a:rPr b="1" lang="cs-CZ" sz="3000" spc="-1" strike="noStrike">
                <a:solidFill>
                  <a:srgbClr val="000000"/>
                </a:solidFill>
                <a:latin typeface="Arial"/>
              </a:rPr>
              <a:t>činí 60 % vyměřovacího základu po celou dobu trvání pracovní neschopnosti.</a:t>
            </a:r>
            <a:r>
              <a:rPr b="0" lang="cs-CZ"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Rozdíl u zaměstnance s průměrnou mzdou tak činí </a:t>
            </a:r>
            <a:r>
              <a:rPr b="1" lang="cs-CZ" sz="2600" spc="-1" strike="noStrike">
                <a:solidFill>
                  <a:srgbClr val="000000"/>
                </a:solidFill>
                <a:latin typeface="Arial"/>
              </a:rPr>
              <a:t>1 530</a:t>
            </a:r>
            <a:r>
              <a:rPr b="0" lang="cs-CZ" sz="2600" spc="-1" strike="noStrike">
                <a:solidFill>
                  <a:srgbClr val="000000"/>
                </a:solidFill>
                <a:latin typeface="Arial"/>
              </a:rPr>
              <a:t> Kč (o 9 %) za druhý měsíc a </a:t>
            </a:r>
            <a:r>
              <a:rPr b="1" lang="cs-CZ" sz="2600" spc="-1" strike="noStrike">
                <a:solidFill>
                  <a:srgbClr val="000000"/>
                </a:solidFill>
                <a:latin typeface="Arial"/>
              </a:rPr>
              <a:t>2 670 </a:t>
            </a:r>
            <a:r>
              <a:rPr b="0" lang="cs-CZ" sz="2600" spc="-1" strike="noStrike">
                <a:solidFill>
                  <a:srgbClr val="000000"/>
                </a:solidFill>
                <a:latin typeface="Arial"/>
              </a:rPr>
              <a:t>Kč měsíčně (o 17 %) od třetího měsíce nemoci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Vláda tímto opatřením na práce neschopných v příštím roce ušetří 2,3 mld. Kč</a:t>
            </a:r>
            <a:r>
              <a:rPr b="0" lang="cs-CZ"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800" spc="-1" strike="noStrike">
              <a:solidFill>
                <a:srgbClr val="006633"/>
              </a:solidFill>
              <a:latin typeface="Garamond"/>
            </a:endParaRPr>
          </a:p>
        </p:txBody>
      </p:sp>
      <p:sp>
        <p:nvSpPr>
          <p:cNvPr id="10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aměstnavatel poskytuje náhradu mzdy nebo platu po dobu 21 kalendářních dní nemoci</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říve 14 kalendářních dní</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Konec refundací ½ poskytnuté náhrady zaměstnavatelů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Obava z tlaku na přecházení nemocí</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opad na zdraví zaměstnanců</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674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Změny v sociálním pojištění</a:t>
            </a:r>
            <a:endParaRPr b="0" lang="en-US" sz="3800" spc="-1" strike="noStrike">
              <a:solidFill>
                <a:srgbClr val="006633"/>
              </a:solidFill>
              <a:latin typeface="Garamond"/>
            </a:endParaRPr>
          </a:p>
        </p:txBody>
      </p:sp>
      <p:sp>
        <p:nvSpPr>
          <p:cNvPr id="103"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Sazba pojistného na nemocenské pojištění pro zaměstnavatele</a:t>
            </a:r>
            <a:r>
              <a:rPr b="0" lang="cs-CZ" sz="3000" spc="-1" strike="noStrike">
                <a:solidFill>
                  <a:srgbClr val="000000"/>
                </a:solidFill>
                <a:latin typeface="Arial"/>
              </a:rPr>
              <a:t> </a:t>
            </a:r>
            <a:r>
              <a:rPr b="1" lang="cs-CZ"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zůstává ve výši 2,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dodatečný příjem do systému nemoc. pojištění cca 9,2 mld.</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áhrada mzdy malým zaměstnavatelům</a:t>
            </a:r>
            <a:r>
              <a:rPr b="0" lang="cs-CZ" sz="3000" spc="-1" strike="noStrike">
                <a:solidFill>
                  <a:srgbClr val="000000"/>
                </a:solidFill>
                <a:latin typeface="Arial"/>
              </a:rPr>
              <a:t> (do 26 zaměstnanců)</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možnost připojištění-pojistné ve výši 3,3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refundace ½ vyplacené náhrady mzd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800" spc="-1" strike="noStrike">
              <a:solidFill>
                <a:srgbClr val="006633"/>
              </a:solidFill>
              <a:latin typeface="Garamond"/>
            </a:endParaRPr>
          </a:p>
        </p:txBody>
      </p:sp>
      <p:sp>
        <p:nvSpPr>
          <p:cNvPr id="105" name="PlaceHolder 2"/>
          <p:cNvSpPr>
            <a:spLocks noGrp="1"/>
          </p:cNvSpPr>
          <p:nvPr>
            <p:ph/>
          </p:nvPr>
        </p:nvSpPr>
        <p:spPr>
          <a:xfrm>
            <a:off x="684360" y="980640"/>
            <a:ext cx="8229600" cy="4599000"/>
          </a:xfrm>
          <a:prstGeom prst="rect">
            <a:avLst/>
          </a:prstGeom>
          <a:noFill/>
          <a:ln w="0">
            <a:noFill/>
          </a:ln>
        </p:spPr>
        <p:txBody>
          <a:bodyPr anchor="t">
            <a:normAutofit fontScale="96000"/>
          </a:bodyPr>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mocenské pojištění OSVČ</a:t>
            </a:r>
            <a:r>
              <a:rPr b="0" lang="cs-CZ" sz="3000" spc="-1" strike="noStrike">
                <a:solidFill>
                  <a:srgbClr val="000000"/>
                </a:solidFill>
                <a:latin typeface="Arial"/>
              </a:rPr>
              <a:t> </a:t>
            </a:r>
            <a:endParaRPr b="0" lang="en-US" sz="30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ová pravidla pro vyměřovací základ OSVČ</a:t>
            </a:r>
            <a:endParaRPr b="0" lang="en-US" sz="26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dstranění zneužívání systému účelovým placením pojistného </a:t>
            </a:r>
            <a:endParaRPr b="0" lang="en-US" sz="2600" spc="-1" strike="noStrike">
              <a:solidFill>
                <a:srgbClr val="000000"/>
              </a:solidFill>
              <a:latin typeface="Arial"/>
            </a:endParaRPr>
          </a:p>
          <a:p>
            <a:pPr lvl="1" marL="64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Maximální vyměřovací základ pro placení pojistného</a:t>
            </a:r>
            <a:r>
              <a:rPr b="0" lang="cs-CZ" sz="3000" spc="-1" strike="noStrike">
                <a:solidFill>
                  <a:srgbClr val="000000"/>
                </a:solidFill>
                <a:latin typeface="Arial"/>
              </a:rPr>
              <a:t> </a:t>
            </a:r>
            <a:endParaRPr b="0" lang="en-US" sz="30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ranice pro odvod na sociální pojištění ponechána ve výši 72 násobku průměrné mzdy</a:t>
            </a:r>
            <a:endParaRPr b="0" lang="en-US" sz="2600" spc="-1" strike="noStrike">
              <a:solidFill>
                <a:srgbClr val="000000"/>
              </a:solidFill>
              <a:latin typeface="Arial"/>
            </a:endParaRPr>
          </a:p>
          <a:p>
            <a:pPr lvl="1" marL="642960" indent="-31212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čekávané navýšení příjmů o cca 3,1 ml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674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Změny v dávkách státní sociální podpory</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457200" y="1483920"/>
            <a:ext cx="8229600" cy="43830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Zrušení sociálního příplatku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000000"/>
                </a:solidFill>
                <a:uFillTx/>
                <a:latin typeface="Arial"/>
              </a:rPr>
              <a:t>přes částečnou</a:t>
            </a:r>
            <a:r>
              <a:rPr b="0" lang="cs-CZ" sz="2600" spc="-1" strike="noStrike">
                <a:solidFill>
                  <a:srgbClr val="000000"/>
                </a:solidFill>
                <a:latin typeface="Arial"/>
              </a:rPr>
              <a:t> kompenzaci v rámci dávek v hmotné nouzi (testování majetku) očekáváme nárůst chudob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očasné zachování sociálního příplatku pro osoby zdravotně postižené (do konce roku 2012), je-li dítě nebo rodič zdravotně postižený </a:t>
            </a:r>
            <a:endParaRPr b="0" lang="en-US" sz="26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Úspora státu na nejpotřebnějších rodinách s dětmi cca. 2,5 mld. Kč</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67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    </a:t>
            </a:r>
            <a:endParaRPr b="0" lang="en-US" sz="3800" spc="-1" strike="noStrike">
              <a:solidFill>
                <a:srgbClr val="006633"/>
              </a:solidFill>
              <a:latin typeface="Garamond"/>
            </a:endParaRPr>
          </a:p>
        </p:txBody>
      </p:sp>
      <p:sp>
        <p:nvSpPr>
          <p:cNvPr id="109" name="PlaceHolder 2"/>
          <p:cNvSpPr>
            <a:spLocks noGrp="1"/>
          </p:cNvSpPr>
          <p:nvPr>
            <p:ph/>
          </p:nvPr>
        </p:nvSpPr>
        <p:spPr>
          <a:xfrm>
            <a:off x="457200" y="1412640"/>
            <a:ext cx="8229600" cy="44542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Rodičovský příspěvek</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měna podmínek při čerpání do 4 let věku dítět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nově výše 3 800 Kč/měsíc již od 9. měsíce dítět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Úspora na rodičích s nejmenšími dětmi cca 1 mld. Kč</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Porodné</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Jen na první narozené dítě a při příjmu rodiny max. do 2,4 násobku životního minima</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Úspora státu  na úkor podpory rodin s malými dětmi cca 1,3 mld. K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674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Změny v oblasti sociálních služeb</a:t>
            </a:r>
            <a:endParaRPr b="0" lang="en-US" sz="3800" spc="-1" strike="noStrike">
              <a:solidFill>
                <a:srgbClr val="006633"/>
              </a:solidFill>
              <a:latin typeface="Garamond"/>
            </a:endParaRPr>
          </a:p>
        </p:txBody>
      </p:sp>
      <p:sp>
        <p:nvSpPr>
          <p:cNvPr id="111" name="PlaceHolder 2"/>
          <p:cNvSpPr>
            <a:spLocks noGrp="1"/>
          </p:cNvSpPr>
          <p:nvPr>
            <p:ph/>
          </p:nvPr>
        </p:nvSpPr>
        <p:spPr>
          <a:xfrm>
            <a:off x="457200" y="1196640"/>
            <a:ext cx="8229600" cy="46702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Příspěvek na péči</a:t>
            </a:r>
            <a:r>
              <a:rPr b="0" lang="cs-CZ"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nížení příspěvku v I. stupni závislosti z 2 000 Kč na 800 Kč/měsíc</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hrožená dostupnost sociálních služeb pro závislé osob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a:rPr>
              <a:t>Úspory na zdravotně postižených a závislých osobách cca 1,5 mld. Kč</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55:17Z</dcterms:created>
  <dc:creator>1</dc:creator>
  <dc:description/>
  <dc:language>en-US</dc:language>
  <cp:lastModifiedBy>trik</cp:lastModifiedBy>
  <dcterms:modified xsi:type="dcterms:W3CDTF">2010-11-27T21:16:51Z</dcterms:modified>
  <cp:revision>28</cp:revision>
  <dc:subject/>
  <dc:title>Úporné opatření v působnosti MPSVS</dc:title>
</cp:coreProperties>
</file>